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CD8F8-A8BE-4372-9AFE-50FE97993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0A506-3563-4FC1-825B-9C674FA5D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E633A-2A4A-4AE5-B1E7-6D54171E6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9DC18-9ABA-4B8F-BBC7-44F48EB81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5925B-ABF9-4D89-B099-C0933FAE1E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43E88E-DEAF-4348-A3F9-F6115150B1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B5CDF-CBCD-4F8B-8C7D-A73CB52D7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06AB-C345-4299-BFC2-E48079297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89533-AAEF-49CE-85E5-3DA6E63F3B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7B7B7-1A77-47C7-A337-D150D7E50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720-B155-496B-ABF4-61A096BC73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3388B-4877-437A-8985-E9E0FDCB73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ADD910-5FB4-40DA-8080-4F9375C892D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ма лекц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Назначение, функции, классификация и характеристики систем документальной связи (СДС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чебные вопрос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 и задачи дисциплины в сис- теме профессиональной подготовки. Рекомендации по самостоятельной работе. Основные понятия и опреде- 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Принципы построения СД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-й вопро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Принципы построения СД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История развития телеграфной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ети телеграфной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Метод автоматизированного транзита с отрывом л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Система прямых 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Автоматизация телеграфной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Назначение телеграфной с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Состав телеграфной с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Построение телеграфной сети (схе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Коммутация в телеграфных  се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Концепция совершенствования телеграфной с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 Категорирование теле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. Виды категорий теле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. Телеграмма вида ШТ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. Телеграмма вида СВЯЗЬАВА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. Подача теле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. Особые виды теле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я развития телеграф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рокое применение телеграфной связи началось во второй половин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., когда были изобретены электромагнитные методы передачи сообщений. На основе этих методов были разработаны пишущие телеграфные аппараты Морзе и Уитстона, а позднее буквопечатающие аппараты Юза и Бод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короткий отрезок времени телеграфная связь усовершенствовалась, она стала более устойчивой и дальнодействующей. Были разработаны способы регенеративной трансляции телеграфных посылок, усовершенствован аппарат Бодо, созданы его шести- и девятикратные модификации, фото- и радиотелеграфная аппарат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ьнейшее развитие телеграфии привело к созданию специальных средств каналообразования, резко снизивших затраты на линейные сооружения. Были разработаны стартстопные телеграфные аппараты, не требующие больших затрат на эксплуатационно-техническое обслуживание. Появилась возможность создания широко разветвленной телеграфной сети и установки телеграфных аппаратов не только на предприятиях связи, но и в отдельных организациях и ведомствах. Так сформировались современные сети телеграфной связи общего пользования и абонентского телеграф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ти телеграф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хническую базу телеграфных сетей составляют телеграфные каналы и стартстопные телеграфные аппараты. Телеграфные каналы образуются путём уплотнения телефонного канала мето- дом частотного или временного разделения. С помощью соот- ветствующей аппаратуры по одному телефонному каналу можно передать одновременно несколько десятков телеграфных сооб- щ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ти общего пользования применяют как ленточные, так и рулонные стартстопные телеграфные аппараты, на сети абонен- тского телеграфа — рулонные. В восьмидесятые годы прошлого столетия все ленточные телеграфные аппараты были замены рулонны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личие широкой сети каналов и дешевой оконечной аппарату- ры позволяет достигнуть не только большой разветвлённости телеграфной связи, но и высокой степени её автомат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од автоматизированного транзита с отрывом л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це 60-х годов 20-го века получил широкое рас- пространение полуавтоматический способ обработки телеграмм методом реперфораторного переприёма; в местах переприёма ручная обработка телеграмм сводится к переносу от аппарата приёма к аппарату передачи перфорированной ленты с напунширован-ной (нанесенной в виде отверстий) на ней телеграм- мой. Приём же телеграмм на ленту и дальнейшая пе- редача осуществляются автоматически. Так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л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матизированного транзита с отрывом ленты (АТО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н повысил производитель- ность труда телеграфиста в 1,5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стема прямых соеди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лную автоматизацию процесса обработки телеграмм даёт систе- ма прямых соединений (ПС). Телеграмма обрабатывается не по- этапно, от одного телеграфного пункта к другому, а передаётся не- посредственно из отделения связи, где телеграмма подана, в отде- ление связи, из которого она будет доставлена адресату. Это дости- гается прямым соединением указанных отделений связи через ав -томатические коммутационные станции телеграфной сети. Такой способ автоматизации дает наибольший экономический эффект, поскольку производительность труда телеграфиста по сравнению с полуавтоматическим способом повышается не менее чем в 3 раза. Способ автоматизации по системе прямых соединений начал внед- ряться с конца 60-х годов и в настоящее время является преобла- дающим на сети общего пользования. Дальнейшее развитие теле- графной связи направлено не только на совершенствование про- цессов автоматизации, но и на увеличение разветвлённости се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матизация телеграфной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вязи с появлением автоматических систем управления (АСУ), получила развит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-связ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яющая собой комплекс средств связи для передачи данных, т. е. передачи такой информации, которая подлежит обработ- ке электронно-вычислительными машинами ЭВМ. Эта ин- формация включает производственные, бухгалтерские, финансовые и другие данные, которые после обработки ЭВМ используются при управлении производством в це- лом. Для повышения оперативности управления скорость телеграфирования 50 Бод стала недостаточной. Для передачи данных (ПД) используется скорость более 200 Б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значение телеграфной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ля передачи телеграфной корреспонденции, поступающей от государственных предприятий, учреждений и частных лиц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ля ведения документальных переговоров как внутри страны, так и за рубежом (объединённая сеть АТ/Телекс), а так же осуществления передачи статистических или других данных и различной цифровой информ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ля предоставления телеграфных каналов в аренду организаци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 телеграфной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ществующая телеграфная сеть страны состоит из сети общего пользования СОП, организуемой между предприятиями Мини- стерства связи РФ, сети абонентского телеграфирования (АТ), организуемой между государственными предприятиями и учреждениями (абонентами), сети арендованных связей и сети факсимильных связей. В телеграфную сеть в последнее время вписалась и всё больше смыкается с ней сеть передачи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СОП передаётся телеграфная корреспонденция от государ-ственных организаций и частных лиц, а по сети АТ ведётся об- мен документальной информацией между государственными ор- ганизациями, имеющими абонентские телеграфные установки (АУ). Связь устанавливается путём организации временных (ком- мутируемых) непосредственных соединений между н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е телеграфной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еграфная сеть строится по радиально-узловому принципу  с выделением главных ГУ, областных ОУ и районных РУС узлов связи. Вся телеграфная сеть РФ разделена на зоны. В каждую зону входит ГУ и тяготеющие к нему ОУ и РУ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ыми узлами являются телеграфы Москвы, крупных областных (краевых) центров, служащих пунктами скрещивания потоков телеграфных сообщений; ГУ соединяются между собой по принципу «каждый с каждым», с ОУ своей зоны и в некоторых случаях с ОУ других зон. Главные узлы обеспечивают обработку исходящих сообщений от абонентов и предприятий связи своего узла, входящих к ним сообщений, транзитных от ОУ своей зоны и от других ГУ и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стные узлы связи — центры областных связей — соединяются пучками телеграфных каналов с ГУ своей зоны, с РУС и узлами связи выделенных городов области, в некоторых случаях с Москвой и при достаточном тяготении — с другими ГУ и ОУ. Областные узлы обеспечивают передачу исходящих сообщений от абонентов и предприятий связи, входящих сообщений и в некоторых случаях транзитных между областными цент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ми районных связей являются РУС, которые включены в ОУ и соединяют свои оконечные пункты ОП с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онечными пунктами СОП являются городские отделения связи ГОС и районные узлы связи, а оконечными пунктами сети АТ — государственные предприятия и учреждения, в которых находятся абонентские телеграфные установки АУ, включенные в любой из указанных выше уз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ммутация в телеграфных се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щая телеграфная сеть организуется на базе некоммутируемых (закреплённых) и коммутиру- емых связей. Некоммутируемые связи используют для предоставления их арендаторам и частично на СОП. Сеть АТ и значительная часть СОП базируются на использовании коммутируемых телеграфных свя- зей, которые имеют значительно большие возможно-сти автоматизации обслуживания, экономичности по- строения, гибкости и предоставляемых потребите- лям услуг. Преимущественное развитие получают ав- томатизированные сети коммутируемых телеграф- ных свя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280" y="14475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елекоммуникационные системы и сети: учеб. пособие для вузов и колледжей: в 3 т., Т.1.: Современные технологии/ Б. И. Крук, В. Н. Попантонопуло, В. П. Шувалов. - М. : Горячая линия - Телеком, 2005. - 647 с. : и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2. Проект концепции предоставления документальных услуг электросвязи. Министерство Российской Федерации по связи и информатизации 2002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3. Основы построения систем и сетей передачи информации: учеб. пособие для вузов/ В. В. Ломовицкий, А. И. Михайлов, К. В. Шестак/ - М. : Горячая линия – Телеком, 2005. - 382 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ия совершенствования телеграф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равления совершенствования СДЭС сформулированы в 1995году в документе: «Концепция развития документальной электросвязи» утверждённой постановлением министерством связи РФ от 6 июля 1995 г. № 13-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пция рассчитана на реализацию в несколько этапов. Научные разработки пред- шествующего периода обосновали целесообразность и в дальнейшем строить сети общего пользования и абонентского телеграфа по трехуровневому радиально-узловому принципу. При этом потребуется оптимальный объем коммутационного оборудования, размещаемого в транзитных, областных и районных узлах. Мерой повышения качества является внедрение автоматизированной системы управления телеграфной сетью на основе ЭВМ. Окончательное решение этой задачи достигается путём широкого осна- щения сети электронными станциями коммутации каналов (КК) и коммутации сообщений (КС). В первую очередь вводятся три центра КС — ЦКС со скоростью обработки десять сообщений в секун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ое направление совершенствования каналообразующей аппаратуры —это внед- рение единого комплекса для передачи дискретных сообщений в широком диапазоне скор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бласти совершенствования оконечной телеграфной аппаратуры решается задача создания массового автоматизированного рабочего места оператора на основе ЭВ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рокие возможности для совершенствования телеграфной сети открываются благода- ря внедрению аппаратуры автоматического контроля на межстанционных и оконечных участках. Такая аппаратура известна РИТМ, ТАКТ, КАНТ, КОНТУ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тегорирование теле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еграмма—это докумен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каждого документа имеет определенную степень важности. Более важные телеграммы должны обрабатываться быстрее. Для организации рациональной очередности и быстроты передачи телеграфных сообщений в зависимости от их важности телеграммы подразделяются на категории. Причём высшей категорией срочности являются внекатегорийные телеграммы, которые обрабатываются прежде вс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егории международных телеграмм определяются международным телеграфным реглам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граммы каждой категории срочности, в свою очередь, в зависимости от содержания имеют отметку категории обрабо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егории теле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 категории: 1,   2,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 очередь: ШТОРМ, АВИА, СВЯЗЬАВИ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шие: КРИПТ ВПР, ВП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тельств: Крипт ПР, ПР, Пр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чная: Крипт СР, Метео, Ср. переводная, Ср. переговор, С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кновенная: Крипт, Переводная, Переговор, Обыкно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граммы ШТО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подачи телеграмм каждой категории предоставляется определённым отправителям. Право подачи внекатегорийных телеграмм, а также и порядок их обработки определяются спе- циальными инструкци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неочередные телеграммы с отметкой ШТОРМ содержат пре- дупреждение всем видам транспорта о возможных опасных яв- лениях погоды или стихийных бедствиях (ураган, буря, туман, снегопад, землетрясение, наводнение, лесной пожар и т. п.). Такие телеграммы подаются метеорологическими и гидрологи- ческими станциями или другими органами Гидрометеорологи-ческой службы РФ, а именно: Гражданского морского, речного и воздушного флотов, а также летчиками, находящимися в полете, ответственными за противопожарную охрану лесов, местными органами власти и начальниками предприятий министерств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еграммы СВЯЗЬАВАРИЯ и АВИ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сообщениями об авариях на линиях связи, о предостав-лении проводов и каналов для восстановления нарушенной связи, диспетчерские оперативные распоряжения о направ- лении телеграмм в обход поврежденным участкам сети об авариях и крушениях на всех видах транспорта, а также на предприятиях связи, промышленных и транспортных пода- ются телеграммы с отметкой СВЯЗЬАВАРИЯ. Такие теле- граммы подаются министерствами, управлениями и пред- приятиями связи, диспетчерской службой и диспетчерскими узлами Главного телеграфного управления и соответству- ющими министерствами и ведом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граммы с сообщением о вылете, прибытии и вынуж -денных посадках самолетов, а также о погоде подаются с отметкой АВИ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тельственные теле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должностных лиц, пользующихся правом подписи и пода- чи телеграмм категории ВЫСШАЯ ПРАВИТЕЛЬСТВЕННАЯ, даё- тся в приложении к Инструкции о порядке обработки телеграмм на предприятиях Министерства связи РФ. К этим лицам относят- ся руководители правительственных учреждений федерального зна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подписи и подачи телеграмм категории ПРАВИТЕЛЬСТ- ВЕННАЯ предоставлено руководителям органов управления субъектов федерации. Список соответствующих должностей также приводится в приложении к вышеупомянутой Инструк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шие правительственные телеграммы от отправителей прини- маются на Центральном телеграфе Министерства связи, крае- вых, областных центральных телеграфах, в объединенных и районных узлах связи, а также в городских и сельских отделен-ях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ые виды теле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ые виды телеграмм установлены для удовлетворения различных потребностей отправителей телеграмм. Отправитель может подать телеграмму с оплаченным отве- том, с уведомлением о вручении телеграммы, с доставкой телеграммы адресату нарочным или почтой, с вручением лично адресату или с адресом до востребования, с достав- кой в указанный отправителем срок. Отправителю предо- ставляется возможность при подаче телеграммы указать серию художественного бланка, на котором следует вру- чить телеграмму адрес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имаются также телеграммы с одним и тем же текстом и подписью для передачи в несколько адресов одного и того же на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1-й вопрос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 Место и задача дисциплины в системе профессиональной подготовки. Рекомендации по самостоятельной работе. Основные понятия и определения, назначение СДЭ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Место и задачи дисципл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сновные признаки документа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сновные термины и опре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онятие СДЭ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Современные проблемы телегра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Современная роль телеграфной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 и задачи дисцип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 СДЭС является продолжени- ем и развитием дисциплин профессиона-льной направленности. В ней предполага- ется более углубленное изучение принци- пов передачи дискретных сообщений с ак- центом на практическое инженерное со-стояние и развитие средств свя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новные признаки документ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стовер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общений – информация, принятая от отправителя, доставляется ад-ресату целиком и в пределах допустимых нормами  искажени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нфиденциаль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еспечение защиты от несанкционированного доступа к сообщению на всех этапах его обработк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арантирован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ставки - сообщение гарантированно доставляется адресату в установленные для данного типа сообще-ния контрольные сро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термины и 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ообщ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граниченная по объёму и времени передачи информация, переда- ваемая с помощью средств электросвяз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электронный докумен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документ, в котором информация представлена в элек- тронно-цифровой форм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услуга электросвяз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результат деятельности оператора связи, заключающийся в предоставлении возможности передачи информации с помощью технических средств электросвяз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окументальная услуга электросвяз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услуга электросвязи, дополняемая приз -наками документальности передаваемой информ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ператор электросвяз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хозяйствующий субъект, предоставляющий докумен-тальные услуги электросвязи и имеющий выданную уполномоченным органом лицензию на предоставление соответствующих услуг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окументальных услуг электросвяз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вид деятельности опера- тора электросвязи, охватывающий комплекс процедур и технологических опера- ций, позволяющих пользователям воспользоваться документальными услугами электросвяз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льзовател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бъект, использующий документальные услуги электросвяз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абонен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физическое или юридическое лицо, использующее оконечное техни- ческое средство (терминал) и которому услуги предоставляются на основе дого- ворных отношений с оператором электросвяз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лиен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физическое или юридическое лицо, которому документальные услуги электросвязи предоставляются посредством пунктов коллективного поль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ие СД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д СДС понимаю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архитектурно-тех- нологических методов и аппаратно-программных средств доставки информации территориально удалённым пользователям, позволяющую обеспечить различные виды услуг (обмен телеграммами, оперативными, диалоговыми данными и файлами ЭВМ, речью, телевизионной и факсимильной информацией и т. п.) при обеспечении требований пользователей к своевременности и качеству доставки этой интегральн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чески под СДС подразумевается телеграфная 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временные проблемы теле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ечение двух последних десятилетий произошло снижение телеграфного обмена в несколько раз, сократилось количество телеграмм, передаваемых по сети общего пользования, уменьшилось количество абонентов сети АТ/Телекс. Снижение обмена привело к тому, что телеграф стал убыточным, причём, в соответствии с общемировой тенденцией, спрос на услуги телеграфной связи продолжает пад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ременная роль телеграф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силу ряда объективных причин телеграфная связь продолжает сохранять свое значение. Присущая этому виду связи надёжность и достоверность передачи информации по-прежнему сохраняют свою важность для органов государственной власти всех уровней, армии, МВД и т.п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ьшение спроса на предоставление услуги “телеграмма”, тем не менее, не позволяет отказаться от её предоставления, т.к. для населения малых городов страны и сельской местности телеграф остаётся иногда единственным доступным видом связ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сущее телеграфной связи свойство документальности является важным для предприятий и организаций, нуждающихся в защищённом коммерческом документообороте. Особое значение телеграфная связь имеет на транспорте, где должна быть исключена возможность постороннего доступа и искажения информ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2-09-08T19:10:3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